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D835-6D71-4A1D-9B9F-90687BA6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0896-8E44-4B4F-BBFC-6F8DC0A3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84A7-7436-48C3-A034-CE493AC0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33D4-A4DD-43D4-987D-AA1D32D6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D9DE-B850-4C5F-A675-F1AD173F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574F-9E1E-4AB2-9762-988F6BC0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6F50-40AA-45B5-B40E-DA4AF057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C311-9648-4F6E-83C3-F8151440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F78E-F617-4D88-B321-20784D97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E637-F6C7-4B7A-9291-C491D71E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F732-0DA3-4568-BAE6-37D6CFE9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7D97-20A1-4EF9-BB31-7237379C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5DDE-A7A4-4551-8DB0-047F7388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2A67-B2AA-4C7D-AE32-70FEA040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562C-B457-4904-9F11-74F5CC99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3FDE-9E65-4EBF-9D9E-CE9D3A14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0326-940C-4998-96A9-846CAB42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6B2E9-5F5C-4B21-A3E1-18FBE9CB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8DE28-555D-4F4E-A65C-62ABDD32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DEE21-4C72-4545-9E57-29A5CDE3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0C401-EC85-463B-B9C4-DD8AC93E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B1DB2-A584-45D4-AD31-E0294378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9F30-F07D-4653-8748-7A1F48B1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7AEEE-66A5-48CC-AF35-9D0C7F76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05161-7008-4E92-A596-27E4DFA6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548E5-49F5-4A63-8F0B-A7E529B4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CBA9F-D836-4863-9340-E8237F20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A46EB-A0FB-4E3F-9D0F-43FD8FB7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8259A-7AC3-4727-BC01-A79C4749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D126B-6549-4496-A02C-646089C9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F7405-4F26-447B-847E-C6EC61DB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43DB5-5362-4B8F-B79F-C92005A4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6A7C7-EC94-422A-8E0C-A0AA6EBE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7BA2-8FA8-4850-A579-92AA9824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DB3D9-D8A9-4EE2-AB02-55FD3A81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CA238-2983-4647-9654-2B756D62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CB996-534C-4FE7-B5A0-D009C6C0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6E32D-CAFF-4380-ACE0-41C09040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0E184-6C2F-4B48-A524-71703105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003DA-5A60-4E81-9CBC-6FE1DBB8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AC771-08DE-467E-9706-3E27CF5B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4814F-082E-449A-9B00-AA26FD3B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3A421-6099-41F4-AFAD-7E1566E6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09C95-4589-4841-83E8-A021A7A1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DB06-7E10-49EC-8241-4CF5C8C2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7AD17-7C3B-44BD-AE70-02E02040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E0A48-F8A4-4A5E-A35D-DAD672E1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4B1C6-7E62-41A6-8DBE-FE7DA5DD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5DD8B-8351-4B24-B0CC-D5FEDF5D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1EF7C-E7E2-4F68-87D4-4948CCC1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7E7B5-A869-4195-9967-ADADEFB2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A699C-347F-4A45-A968-6A5666BA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D3EDA-732A-40AF-A2BE-08945163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D3B70-A43E-43C6-8A3A-214AB792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28A20-6EB6-4A51-803C-EF4ED2A0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8C64-FA37-4CF9-A6BC-A3E76322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4F9D3-0CE2-41C9-BA5C-40C6D3DF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5A4FE-24C1-4A73-9C69-49DC37A3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60B00-396A-4767-96FB-210AFBDF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B2F4C-FAB1-4EEB-86CF-2AB8916F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72D5E-082A-4AB7-9CFD-69B666EA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0C87C-25C9-418F-8425-4CB0BFC3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A6C1E-779C-4693-AAA4-A4A07D54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B8FA5-3932-49C5-B8F6-B1C11DDD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9623B-8427-4275-A99B-4608FE58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613F8-87F5-4324-875C-03577217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C402-F90E-4385-A741-C9618ED2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41F0A-6C84-45D7-BE3F-397132CB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0AAC9-830A-4779-B823-BA32CFDE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CE274-0611-4047-9618-E40D3D94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40C8D-BB54-4C2F-8DCC-0DD113F0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FA420-5B15-4856-A8BE-A8222D7C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4A314-7BCD-44E4-B8C1-8FF3D578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CAD10-D51B-46B2-BD9B-FE6B9BFA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308F9-0FDB-40E2-9367-4BF87E82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C39FF-E3B3-4EA5-9B00-879927C7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205F6-ACD9-42DF-AC99-DE6AB571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4713-5497-4C0E-A863-3D8161F1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CF701-64BF-481C-BDBD-A2B5BF44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952B1-4890-4D35-B101-E3A35907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97E43-613D-447B-8EE3-F77A2787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9E005-498B-4B12-AB54-F3E3150C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3D022-1305-45FE-A242-ABF6BE35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6BAC-6866-4322-A6C4-BC5044B0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7D0A1C-CAB0-453C-A541-EF004A90E446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A12B1-3E64-41C5-A5F7-194B614E056A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3A53E-06E7-4218-A206-40EE7A7F2CFB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6569F-43F4-4FFE-AE36-E06AE4B7B9AC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25DB09-2030-4FA2-A1D3-F5EA2E4C45AA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D652C-A1BA-4FA6-A7F2-FE9E595E94CE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0EAAD-45E4-479F-B2B0-86F450FE29F7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3F1400-C411-4D28-9B1D-088DE0726143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9BF6EC-BDAA-4AA9-A2F1-1A21D504876D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E1FF0-1F86-4A1C-B542-74CE0B0CEBB8}" type="slidenum">
              <a:rPr b="0" lang="ms-MY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788DF-795E-4D64-AD05-2FD6CEDC5BAD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0DF6A-C664-4D40-8BCF-0BF86E02BAB8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FF0A0-EB18-417E-B40B-FB52E234FD78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B174E-E1D5-4AF0-ABB3-6F1763DBC0E3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emedicine.medscape.com/article/238545-overview" TargetMode="External"/><Relationship Id="rId3" Type="http://schemas.openxmlformats.org/officeDocument/2006/relationships/hyperlink" Target="http://emedicine.medscape.com/article/238545-overview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Screening &amp; Diagnosis of CKD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825120" y="4456080"/>
            <a:ext cx="792324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4068"/>
                </a:solidFill>
                <a:latin typeface="Calibri Light"/>
              </a:rPr>
              <a:t>MODULE 1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344068"/>
                </a:solidFill>
                <a:latin typeface="Calibri Light"/>
              </a:rPr>
              <a:t>DR. ANITA BHAJAN MANOCH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344068"/>
                </a:solidFill>
                <a:latin typeface="Calibri Light"/>
              </a:rPr>
              <a:t>HOSPITAL SEBERANG JAYA, PULAU PINA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344068"/>
                </a:solidFill>
                <a:latin typeface="Calibri Light"/>
              </a:rPr>
              <a:t>DR. KOW FEI P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344068"/>
                </a:solidFill>
                <a:latin typeface="Calibri Light"/>
              </a:rPr>
              <a:t>KLINIK KESIHATAN BANDAR BARU AIR ITAM, PULAU PINA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  <p:sp>
        <p:nvSpPr>
          <p:cNvPr id="307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1A267-3C53-4183-8E72-4AB03931A673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821880" y="3004920"/>
            <a:ext cx="7543800" cy="3160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inuria has both diagnostic and prognostic value in CKD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ce of proteinuria should be confirmed by a repeat test within 3 months.  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inuria shows considerable biological variation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3E32F-4A02-4D09-809D-4E9E57C0CC33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349200" y="312840"/>
            <a:ext cx="85536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Factors affecting urinary protein excretio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51D70-8309-4645-832A-21A364C65C4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8478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Albuminur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050920" y="1846440"/>
            <a:ext cx="504216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ould be measured as a ratio to urinary creatinine concentratio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rine AC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 is highly sensitive and specific for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icroalbuminuri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uld be performed on an early morning urine sample to minimise the effect of posture and exercise on urine albumin excretio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74E23-811D-4BB2-A205-47BCB9ADE6E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2" name="Object 6"/>
          <p:cNvGraphicFramePr/>
          <p:nvPr/>
        </p:nvGraphicFramePr>
        <p:xfrm>
          <a:off x="304920" y="2060640"/>
          <a:ext cx="1600200" cy="33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60640"/>
                    <a:ext cx="1600200" cy="33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5"/>
          <p:cNvGraphicFramePr/>
          <p:nvPr/>
        </p:nvGraphicFramePr>
        <p:xfrm>
          <a:off x="7238880" y="2057400"/>
          <a:ext cx="170820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2057400"/>
                    <a:ext cx="17082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1880" y="115920"/>
            <a:ext cx="7543800" cy="124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Diagnosis of abnormal protein or albumin excretion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11071-1482-4D95-B167-FCB756FA8C7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1476360" y="1830240"/>
            <a:ext cx="6337440" cy="4911840"/>
          </a:xfrm>
          <a:prstGeom prst="rect">
            <a:avLst/>
          </a:prstGeom>
          <a:ln w="0">
            <a:noFill/>
          </a:ln>
        </p:spPr>
      </p:pic>
      <p:sp>
        <p:nvSpPr>
          <p:cNvPr id="349" name="Oval Callout 2"/>
          <p:cNvSpPr/>
          <p:nvPr/>
        </p:nvSpPr>
        <p:spPr>
          <a:xfrm>
            <a:off x="5410080" y="708120"/>
            <a:ext cx="2667240" cy="992160"/>
          </a:xfrm>
          <a:prstGeom prst="wedgeEllipseCallout">
            <a:avLst>
              <a:gd name="adj1" fmla="val -42893"/>
              <a:gd name="adj2" fmla="val 67500"/>
            </a:avLst>
          </a:prstGeom>
          <a:solidFill>
            <a:srgbClr val="ff0000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2400" spc="-1" strike="noStrike">
                <a:solidFill>
                  <a:srgbClr val="ffffff"/>
                </a:solidFill>
                <a:latin typeface="Calibri"/>
              </a:rPr>
              <a:t>Gold stand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6341E-5402-4B4D-B10B-E5BB9988A87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1703520" y="163440"/>
            <a:ext cx="575136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C6EA1-D4D1-4153-9714-03D11C7EF86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2195640" y="115920"/>
            <a:ext cx="475272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Haematur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21880" y="1846080"/>
            <a:ext cx="7543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istent microscopic haematuria may indicate significant pathology including infection, renal calculi, glomerulonephritis, malignancy and other forms of kidney damage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ine microscopy (preferably phase contrast) on a fresh specimen can be used to differentiate hematuria of glomerular or non-glomerular origin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glomerular hematuria warrants a urological evaluation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4D2D9-8E92-476C-B1FD-8179840B32C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28210C-50BE-4DD9-8289-26B817D2162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665280" y="404640"/>
            <a:ext cx="7916760" cy="59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4F68D-04CB-47B9-9F0D-40BCC07680D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8308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Serum creatinin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um creatinine is not sensitive to diagnose early CKD as it is affected by: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nicity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le mass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etary protein intak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DFA43-468E-43AD-A1F2-6EF6795C94F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Learning objectiv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 learn on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ationale on whom to be screened for CK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effective screening method and staging of CK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classification of CKD with its prognostic indicator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enal function and drug dosing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6ED4C-A55B-4FDC-B3D7-8A90E855D7D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457200" y="1844640"/>
            <a:ext cx="8250120" cy="43434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Serum creatinine</a:t>
            </a:r>
            <a:r>
              <a:rPr b="1" lang="en-MY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435640" y="1855440"/>
            <a:ext cx="3146400" cy="1717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anchor="t">
            <a:normAutofit fontScale="98000"/>
          </a:bodyPr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um creatinine is not a sensitive marker of early CKD as it will only rise after a 50% decline in renal funct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0D5D9-3E45-4D3F-A4DE-6E87C20F0C1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609480" y="6310440"/>
            <a:ext cx="792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  Salifu MO et al. Azotemia. emedicine. c2009 [Updated Sept 2009]. Available at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 u="sng">
                <a:solidFill>
                  <a:srgbClr val="6eac1c"/>
                </a:solidFill>
                <a:uFillTx/>
                <a:latin typeface="Arial"/>
                <a:ea typeface="Times New Roman"/>
                <a:hlinkClick r:id="rId2"/>
              </a:rPr>
              <a:t> </a:t>
            </a:r>
            <a:r>
              <a:rPr b="0" lang="en-US" sz="1400" spc="-1" strike="noStrike" u="sng">
                <a:solidFill>
                  <a:srgbClr val="6eac1c"/>
                </a:solidFill>
                <a:uFillTx/>
                <a:latin typeface="Arial"/>
                <a:ea typeface="Times New Roman"/>
                <a:hlinkClick r:id="rId3"/>
              </a:rPr>
              <a:t>http://emedicine.medscape.com/article/238545-overview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Estimation of renal functio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21880" y="1846440"/>
            <a:ext cx="754380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various formulae to evaluate eGFR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KD-epidemiology (CKD-EPI) creatinine equation validated in the Western population has shown superiority over the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Modification of Diet in Renal Disease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DRD) equation especially at higher GFR (&gt;60ml/min/1.7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tudy in Malaysian population also shown that CKD-EPI creatinine equation had better accuracy over MDRD in patients with eGFR &lt;60 ml/min/1.73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9. Levey AS, et al. Ann Intern Med. 2009;150 (9):604-12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20. Jalalonmuhali M, et al. BMC Nephrol. 2017;18(1):363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93268-F7E4-4477-A604-71C2CDFD47A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Estimation of renal function in the elderly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21880" y="1846440"/>
            <a:ext cx="75438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elderly (age &gt;65 years), there is no accurate method to assess renal function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ckcroft-Gault Creatinine Clearance equation, MDRD equation and cystatin C have the highest correlation to the gold standards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1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More studies are required to address the best formula for this age group.  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21. Van Pottelbergh G, et al. Age Ageing. 2010;39(5):542-8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7B3ED-C3FC-423C-BC7A-2E1B00C2327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Renal function and drug dosing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ckcroft-Gault equation has been traditionally used for drug dosing based on creatinine clearance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recent practice CKD-EPI equation is used for drug dosing of newer generation drug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drug dosing adjustments should follow US-FDA and EMA labelling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629C26-8936-43D7-95A0-B4FCD7219E6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ystatin C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821880" y="1846440"/>
            <a:ext cx="754380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marL="169200" indent="-169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ystatin C is used for GFR assessment and it is independent of muscle mass, age, sex, weight, height or dietary protein intake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9200" indent="-169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e combination of SCr and serum cystatin C is more accurate than either marker alone for eGFR evaluat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9200" indent="-169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ystatin 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is more expensive and not widely available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9200" indent="-169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 may be used for confirmation of CKD in adults with eGFR of 45 - 59 ml/min/1.73 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with no other markers of kidney damage.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22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9200" indent="-1692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9200" indent="-1692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22. Inker LA, et al. N Engl J Med. 2012;367(1):20-9. Erratum in: N Engl J Med. 2012;367(7):681. N Engl J  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69200" indent="-1692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Med. 2012;367(21):2060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69200" indent="-169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EA901-584F-473A-AE27-F47FBAAA8F63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CF8EA-E701-4F1E-A619-98319449B11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379440" y="1341360"/>
            <a:ext cx="8513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Ultrasound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821880" y="1846080"/>
            <a:ext cx="754380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ltrasound is a useful first line test for imaging the renal tract in patients with CKD. It provides information on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nal size and symmet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tical thickness and echogenicit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rinary tract obstru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id or cystic les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94B91-D15A-4D3D-948A-F29FF66BFB3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324000" y="3789360"/>
            <a:ext cx="84960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STAGING OF CKD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087DD7-F786-4597-B6B4-AE08E9754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C3E12-A985-42E6-94E1-B13A4D46750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36600" y="2781360"/>
            <a:ext cx="8483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Definition of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9FA24-1B66-4DB4-9CBD-1E0A0E55B37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6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832968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SCREENING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825120" y="4455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(A) WHO TO SCREEN?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4CB1A1-3A3C-44F9-B561-326A8EAC2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Staging of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Markers of  kidney damage is defined as either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buminuria (AER ≥30 mg/24 hours or ACR ≥3 mg/mmol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ine sediment abnormaliti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lyte and other abnormalities due to tubular disorder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normalities detected by histolog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al abnormalities detected by imaging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story of kidney transplant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28C66-F763-4E12-B455-75CEF23FEAC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404040"/>
                </a:solidFill>
                <a:latin typeface="Calibri Light"/>
              </a:rPr>
              <a:t>Classification of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ification of CKD should be based upon cause, GFR category and albumin category (CGA).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sence or absence of systemic disease and location within the kidney of observed or presumed HPE findings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FR category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lbuminuria category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462F9-F6C3-4679-BA81-1E36AC0C438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GFR category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1306A-DF8E-4D4C-8CA0-EC5474F5DFB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1"/>
          <a:stretch/>
        </p:blipFill>
        <p:spPr>
          <a:xfrm>
            <a:off x="395280" y="1932120"/>
            <a:ext cx="83534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Albumin category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4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86AFB-EAB3-41BF-8DCB-BD95D365F4D4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1"/>
          <a:stretch/>
        </p:blipFill>
        <p:spPr>
          <a:xfrm>
            <a:off x="414360" y="2090880"/>
            <a:ext cx="82994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Albuminur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821880" y="1773360"/>
            <a:ext cx="754380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buminuria is an independent CV risk factor at any stage of CKD. Presence of albuminuria significantly increases the risk of CV events by ≥85% in stage 1 and 2 DKD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ce and the degree of proteinuria predicts progression of CKD and development of ESRD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 Japanese cohort study, proteinuria significantly increased the risk of ESRD by more than 4 times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ther study showed that presence of higher level of albuminuria conferred a higher risk of developing ESRD compared with lower level (HR of 47.2 vs 13.0)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1C6975-8DA4-4214-AF1D-013C59104DA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Prognosis of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gnosis of CKD is based upon 4 factors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 of CK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FR categor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buminuria categor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risk factors and co-morbid conditions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2A655-2C38-4DE2-ABFF-9D9ACBC9FEB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D4102-5B30-470F-BEC9-55E3FED28F7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523080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2"/>
          <p:cNvSpPr/>
          <p:nvPr/>
        </p:nvSpPr>
        <p:spPr>
          <a:xfrm>
            <a:off x="988920" y="5516640"/>
            <a:ext cx="73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isks of ESRD and mortality are higher with larger eGFR decline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and higher albuminuria levels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8000" spc="-1" strike="noStrike">
                <a:solidFill>
                  <a:srgbClr val="262626"/>
                </a:solidFill>
                <a:latin typeface="Calibri Light"/>
              </a:rPr>
              <a:t>Thank you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433AAF-6F2C-4834-96F5-DC22647B457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821880" y="1846080"/>
            <a:ext cx="75438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M is significantly associated with increased risk for CKD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Malaysia, diabetic kidney disease (DKD)  is a major cause of CKD, contributing to 61% of new patients requiring dialysis in 2015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ertension may be a cause or consequence of CKD and may accelerate the progression of renal disease leading to end-stage renal disease (ESRD)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9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9. Ministry of Health, Malaysia. Management of Chronic Kidney Disease in Adults. Putrajaya: MoH;      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73AC88-674F-4340-B14C-90B9E8C9D8B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1"/>
          <a:stretch/>
        </p:blipFill>
        <p:spPr>
          <a:xfrm>
            <a:off x="365040" y="325440"/>
            <a:ext cx="8521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21880" y="22766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s &gt;65 years are at increased risk of CKD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esit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s the risk of developing low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FR with RR of 1.18 &amp; albuminuria with RR of 1.5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atients with atherosclerotic vascular disease have 1.4 times greater risk of developing CKD compared with those without the disease in a 2-year follow-up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Metabolic syndrome is a risk factor for CKD as shown by a large meta-analysis of 11 cohort studies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trength of the association increases as the number of components of metabolic syndrome increases.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0. Garofalo C, et al. Kidney Int. 2017;91(5):1224-35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1. Thomas G, et al. Clin J Am Soc Nephrol. 2011;6(10):2364-73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04C1E-079F-4DC3-B1B0-395C63DAC17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423720" y="293760"/>
            <a:ext cx="8396280" cy="5252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"/>
          <p:cNvPicPr/>
          <p:nvPr/>
        </p:nvPicPr>
        <p:blipFill>
          <a:blip r:embed="rId2"/>
          <a:stretch/>
        </p:blipFill>
        <p:spPr>
          <a:xfrm>
            <a:off x="423720" y="765000"/>
            <a:ext cx="83962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1880" y="3492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ecommendation 1 – Screening (cont.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10920" y="1413000"/>
            <a:ext cx="79930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Calibri"/>
              </a:rPr>
              <a:t>Screening for CKD may be considered for patients with drugs e.g. proton-pump inhibitors (PPI), analgesics, herbal preparations (e.g. aristolochic acid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Use of PPI has been shown to significantly increase the risk of developing CKD (RR/OR=1.1-1.5)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13-15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and progression of CKD (HR=1.26-1.32)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15-16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538200" indent="-3636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The risk correlates with cumulative dose of exposure.</a:t>
            </a:r>
            <a:r>
              <a:rPr b="0" lang="en-MY" sz="2000" spc="-1" strike="noStrike" baseline="30000">
                <a:solidFill>
                  <a:srgbClr val="000000"/>
                </a:solidFill>
                <a:latin typeface="Calibri"/>
              </a:rPr>
              <a:t>14 - 16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e most common risk factor for acute decline in GFR is the use of NSAIDs including Cox-2 inhibitors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Certain herbal products containing aristolochic acid are associated with CKD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2. KDIGO CKD Work Group. Kidney Disease. Kidney Inter, Suppl. 2013;3:1-150.; 13. Arora P, et al.  BMC Nephrol. 2016;17(1):112.; 14. Lazarus B, et al. JAMA Intern Med. 2016;176(2):238-46.; 15. Xie X, et al. Lancet. 2016;387(10017):435-43.; 16. Klatte DCF, et al. Gastroenterology. 2017;153(3):702-10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65D8E-F91F-47BE-9EE1-6EB7B154D08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1880" y="32400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ecommendation 1 – Screening (cont.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821880" y="1773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Calibri"/>
              </a:rPr>
              <a:t>Screening for CKD may be considered for patients with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family history of CKD or hereditary kidney diseas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gou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multisystem diseases with potential kidney involvement e.g. systemic lupus erythematosu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structural renal tract disease, renal calculi or prostatic hypertroph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opportunistic (incidental) detection of haematuria or proteinuri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mily history of kidney disease in first degree relatives increases the risk of CKD by 40% in a 25-year follow-up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Gout</a:t>
            </a:r>
            <a:r>
              <a:rPr b="0" lang="en-MY" sz="20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and asymptomatic hyperuricaemia are associated with CKD.</a:t>
            </a:r>
            <a:r>
              <a:rPr b="0" lang="en-MY" sz="2000" spc="-1" strike="noStrike" baseline="30000">
                <a:solidFill>
                  <a:srgbClr val="000000"/>
                </a:solidFill>
                <a:latin typeface="Calibri"/>
              </a:rPr>
              <a:t>17 - 18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Individuals with incidental detection of proteinuria and/or haematuria during opportunistic medical screening need to be investigated for CKD.</a:t>
            </a:r>
            <a:r>
              <a:rPr b="0" lang="en-MY" sz="2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7. Roughley MJ, et al. Arthritis Res Ther. 2015;17:90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8. Zhu P, et al. PLoS One. 2014;9(6):e100801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3FC5C-010D-4344-89AA-1CF4D4B4FF1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Other possible risk factor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21880" y="1846080"/>
            <a:ext cx="7543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story of acute kidney injury (AKI)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phrolithiasi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birth weight of &lt;2.5 kg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oking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socio-economic statu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emia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cturia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al inactivity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F92C3-3CEB-4B1E-96AE-4AD408ACE71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SCREENING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25120" y="4455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(B) HOW &amp; WHEN TO SCREEN?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2A98D-2F24-4E08-A36E-A130B8B98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4T09:53:13Z</dcterms:created>
  <dc:creator>user</dc:creator>
  <dc:description/>
  <dc:language>en-US</dc:language>
  <cp:lastModifiedBy>Dr. Mohd. Aminuddin</cp:lastModifiedBy>
  <dcterms:modified xsi:type="dcterms:W3CDTF">2019-05-02T02:51:23Z</dcterms:modified>
  <cp:revision>200</cp:revision>
  <dc:subject/>
  <dc:title>SCREENING &amp; DIAGNOSIS</dc:title>
</cp:coreProperties>
</file>